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E0F-35AD-4131-8F53-AE6D8E7D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1E5-4CDD-45B4-ACC8-C7B069C1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ADA-500C-465E-8D77-7732D836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480-E274-4988-8C53-20951A86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839D-B65E-4920-838E-3ED2AD96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4E91-71EB-4DE2-A878-A9DAFBBB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FA1C-0AD0-487D-8BCC-C9B2EEF7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ED1-144A-4926-A029-504BEB09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5725-1EBC-4FD8-A013-6CDB8A3B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6F3C-9486-4299-9FD1-0E641C1D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06A7-4367-4BCC-BFBC-26EDFCC3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56E-8217-4C33-891B-1067890E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51B5-22A8-4179-A515-3F8388F3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60AA-9ECE-493D-A5E1-CEAE06F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63DF-E830-4883-A1B4-4415D8BE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C641-4048-41B0-A3AE-FA4F60CA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C74A-41B5-4BC6-A3B5-F251B219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0766-9B8A-472C-ACDF-5A32D95F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2D325-F4BC-4475-B68F-A15965C3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858A-E705-4B44-AB04-BE070436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FA7F-92D6-4262-AE6E-BEF464BB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83EF2-1497-4320-A75B-E89CC873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1DA-BA3C-4D06-AA34-F5AD441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622F-D74B-4D1E-8C3C-58F78A0E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0DA48-56C3-4509-B227-0A5F3243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99EB-6AF4-445A-9540-31B28CD0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4371-7155-4E3F-9850-C572BD9D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A064-B340-4A96-8D09-A6226BE2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C8CA-9754-4337-962B-9CA2929B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C88E-A44B-4F2B-BBB0-B2ECF7E6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A65E-DAE9-4937-8C1A-C9905513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93CB-2DA1-4314-8FF9-CD2325C8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816BE-B618-4FC0-A296-061FA9A5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E4D-6AD1-456F-997B-FBB51FE2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9EE3-9D69-45C1-A3E8-796AE0CE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A73D-25AA-4001-B999-24EA9F9B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4E17-E4DA-47D5-9371-389E4FC8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89B00-47B9-4FE0-8DE3-48062CC6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7F8F-9FE8-4A7F-A619-F512BF68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E1C29-08E4-4002-9BF8-1035897C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00C6-FDDA-4AD7-AC2B-10B9A71F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E6F5F-8E05-4FBE-B979-656DB49C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5A405-D272-43AF-85F8-7F4098AD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8E0-A335-4D59-BA57-E6E9E9A3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F49-5359-48CE-9E49-CE52C09B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E68-F00B-46C2-9F7C-C39D0CB7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E94-93CD-4A87-A0B3-9C8D0625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230-79CA-4541-96CD-67CA8A1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365A3-3084-4E84-9130-B0BA56947354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CAE57-82A4-432D-8ADD-614A71BC66E4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20A01-0A16-4A34-8625-08CDCE5FE2F5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2002B-431B-4A44-932F-FE964B39C1B7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7" descr=""/>
          <p:cNvPicPr/>
          <p:nvPr/>
        </p:nvPicPr>
        <p:blipFill>
          <a:blip r:embed="rId1"/>
          <a:stretch/>
        </p:blipFill>
        <p:spPr>
          <a:xfrm>
            <a:off x="946080" y="520560"/>
            <a:ext cx="2911680" cy="5889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4705200" y="789120"/>
            <a:ext cx="678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Мастерская Самсона Суханова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2" descr="Vasily Tropinin 19.jpg"/>
          <p:cNvPicPr/>
          <p:nvPr/>
        </p:nvPicPr>
        <p:blipFill>
          <a:blip r:embed="rId2"/>
          <a:stretch/>
        </p:blipFill>
        <p:spPr>
          <a:xfrm>
            <a:off x="4378320" y="2795760"/>
            <a:ext cx="2610000" cy="3286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aint Isaac's Cathedral in SPB.jpeg"/>
          <p:cNvPicPr/>
          <p:nvPr/>
        </p:nvPicPr>
        <p:blipFill>
          <a:blip r:embed="rId3"/>
          <a:stretch/>
        </p:blipFill>
        <p:spPr>
          <a:xfrm>
            <a:off x="8096400" y="2795760"/>
            <a:ext cx="2609640" cy="1723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s://upload.wikimedia.org/wikipedia/commons/thumb/e/e5/%D0%A8%D0%B0%D1%80_%D0%A1%D1%82%D1%80%D0%B5%D0%BB%D0%BA%D0%B8_%D0%92.%D0%9E.jpg/175px-%D0%A8%D0%B0%D1%80_%D0%A1%D1%82%D1%80%D0%B5%D0%BB%D0%BA%D0%B8_%D0%92.%D0%9E.jpg"/>
          <p:cNvPicPr/>
          <p:nvPr/>
        </p:nvPicPr>
        <p:blipFill>
          <a:blip r:embed="rId4"/>
          <a:stretch/>
        </p:blipFill>
        <p:spPr>
          <a:xfrm>
            <a:off x="8096400" y="4668840"/>
            <a:ext cx="2609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углубление для основания колонны радиу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см. Число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3. Какой длины и площади будет основание колонны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9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 = 2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 = 2*3* 500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000(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=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² = 3*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² = 3*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00 =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750000 (см²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С=3000см,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=750000c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647640" y="3724200"/>
            <a:ext cx="222876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2876400" y="372420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4879800" y="3716280"/>
            <a:ext cx="199404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647640" y="4410000"/>
            <a:ext cx="2154240" cy="4780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2801880" y="4422600"/>
            <a:ext cx="1763640" cy="4654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4565520" y="4430880"/>
            <a:ext cx="2308320" cy="4572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2293920" y="4900680"/>
            <a:ext cx="3076560" cy="4604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647640" y="5373720"/>
            <a:ext cx="6443640" cy="62856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2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боковой поверхности колонны равна 150 м². Сколько потребуется краски, чтобы покрасить колонну, если на 1м² расходуется 200г краски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50 * 200 = 30000(г)= 30 (кг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30кг краски потребуетс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1063800" y="3765600"/>
            <a:ext cx="22287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3249720" y="377352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5229360" y="3765600"/>
            <a:ext cx="14205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1779480" y="4762440"/>
            <a:ext cx="4346640" cy="120672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4"/>
          <p:cNvSpPr/>
          <p:nvPr/>
        </p:nvSpPr>
        <p:spPr>
          <a:xfrm>
            <a:off x="639720" y="1305000"/>
            <a:ext cx="6475320" cy="4938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1512720" y="349200"/>
            <a:ext cx="8620200" cy="6426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егенды Александровской колонн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981000" y="1496880"/>
            <a:ext cx="57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рудно поверить, но поначалу горожане опасались приближаться к новому сооружению из-за боязни быть погребенными под его руинами. Такие слухи имели под собой некоторое основание: при установке фигуры ангела на вершине колонны поначалу планировалось само на вершие изготовить из гранита, но в последний момент гранит заменили обычной кирпичной кладкой. К тому же колонна не закреплена, а удерживается на основании под тяжестью своего веса. Оскорбленный недоверием публики Монферран ежедневно прогуливался рядом с колонной со своей собачкой, стремясь развеять пустые страхи обывателе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7176960" y="179712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3T17:13:33Z</dcterms:created>
  <dc:creator>RePack by Diakov</dc:creator>
  <dc:description/>
  <dc:language>en-US</dc:language>
  <cp:lastModifiedBy>RePack by Diakov</cp:lastModifiedBy>
  <dcterms:modified xsi:type="dcterms:W3CDTF">2021-11-04T10:50:14Z</dcterms:modified>
  <cp:revision>7</cp:revision>
  <dc:subject/>
  <dc:title>Презентация PowerPoint</dc:title>
</cp:coreProperties>
</file>